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BE0-0E85-47C6-87E3-8035F86E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334-E7EA-4D7A-8F17-315D8136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902-DC12-4C11-B69E-2E4E5AC6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1B3-85EA-46A4-AFAA-E9A50494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6FBC-0C26-4D22-8350-509705F5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7957-FED2-4B39-94FA-DB4D4291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3FF-2C9F-42AF-9DBD-1E8CA16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6B2E-F353-4055-8F03-C70F7FE3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CD2C-454F-4632-9146-A02785DD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493C-1E9E-4270-8B95-7C9A63F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5215-E767-4037-85CA-F905419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7F0-1C02-4318-ADA4-4AB7C6D3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D377-841C-4C9E-B038-AC8D80CC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650E-3191-4119-A1E0-D6EE7DCF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CD3F-073E-48AE-AB65-3C5D733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A05F-562F-45FB-9EF0-80C5D393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2E94-0D24-4F18-ABAE-B8E7C981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92C-CEE5-4015-91C2-1B6BD7EA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E0C-FF27-4F29-B1FA-150FB426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724-1F1B-43B2-8E67-98B29E07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BDA-7DEF-4CB0-9331-FD887D1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E83-19DC-4155-A73D-E51957D3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B16-5764-4BBA-8F6A-2775C12B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5DE-7EEC-459D-90CD-0C6A9FE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FC3-4313-449F-A1FC-00C497AA9CE0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3F2E-B468-4BFB-934E-216644A396FC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Going My Way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Hayden and Allison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Destination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685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Milwaukee, WI to Scotlandville, LA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486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eans of transportation: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Fares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lta Airlines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Milwaukee, WI to Scotlandville, LA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$473.91 Per Passenger Round Trip Coach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Principle ticket price- $433.01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Fees- $40.91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3 People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Plane Tickets- $1421.70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To Baton Rouge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part- 2:35 PM April 1</a:t>
            </a:r>
            <a:r>
              <a:rPr b="0" lang="en-US" sz="1600" spc="-1" strike="noStrike" baseline="30000">
                <a:solidFill>
                  <a:srgbClr val="004080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 2009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rrive in LA at 7:17  PM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1 stop in Atlanta, GA 1 hr 8 min layover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To Milwaukee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part- 7:45 AM April 15, 2009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rrive in Milwaukee- 12:03 PM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1 stop in Atlanta, GA 57 min layover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751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Layovers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o Baton Rouge: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Depart- 2:35 PM April 1st 2009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rrive in LA at 7:17 P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1 stop in Atlanta, GA 1 hr 8 min layover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o Milwaukee: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Depart- 7:45 AM April 15, 2009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rrive in Milwaukee- 12:03 P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1 stop in Atlanta, GA 57 min layover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Rental Car: 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$190.49 Per Week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2 Weeks. 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$380.98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rom Hertz Car Rental Services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19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ap of the route of our plane: 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191120" cy="5638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9960" y="2181240"/>
            <a:ext cx="374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Milwaukee to Atlanta, Georgia</a:t>
            </a: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  <a:p>
            <a:pPr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Atlanta, Georgia to Baton Rouge, Louisiana</a:t>
            </a: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14:42Z</dcterms:created>
  <dc:creator>MPS MPS</dc:creator>
  <dc:description/>
  <dc:language>en-US</dc:language>
  <cp:lastModifiedBy>MPS MPS</cp:lastModifiedBy>
  <dcterms:modified xsi:type="dcterms:W3CDTF">2009-04-02T13:59:36Z</dcterms:modified>
  <cp:revision>3</cp:revision>
  <dc:subject/>
  <dc:title>Going My Way</dc:title>
</cp:coreProperties>
</file>